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1600B-5C39-4135-9506-335C58DB1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D7554-25E0-45C9-8EA6-325722CA0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1EDAC-62CC-4C22-9BCC-1DBBF24B0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3E7D4-02F8-43AC-8DD3-5EAEFDE4B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796F4-7090-477F-A566-A2A872577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AABA9-A0CB-4EDF-BC7D-9167C6B61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1C5DA-15ED-4FDF-B7A8-95AD39E47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EB58A-60D3-437E-AC1E-85882144A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EA243-4C18-4E3C-A1EA-1BDBCA7B2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03426-A2F4-4CCD-8202-058F6B6D7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36CEA-DA6A-4074-ACF7-A91850D97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F7FF-BD58-44D4-96F7-14AE06439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E9A63-375F-4DD4-86C1-D3EA80771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EC5F3-2B35-48AB-9BA5-43DABF7B9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216B1-DADA-4EAF-9A67-647350E76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0706C-1C03-45A1-BD66-D92021DB4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67FBE-C3BC-4588-BB4E-A97383A99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A6249-6E27-44AE-AD6C-97DFE0D2E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11CB8-EBF1-40F5-AFEE-723738D1F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76864-452F-4C07-AACE-E5DDA6059A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F8695-851A-4121-BB61-3CA2281F5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A8006-BF8C-4FE1-97B0-384B0B3C5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1E8A-469C-4985-90B4-61DCDB052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7C07C-65B7-4724-85DD-E00062D8B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04C91-064B-48C5-84F0-CD1F9D8C4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1B12D-4FB3-4A14-A8D0-6CB37D922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ECEDC-35AD-4052-92CE-0401E990C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13AA1-3656-46FF-AADB-10E0E2EEC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F3C20-C7C2-4AB1-AE99-B3C619945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FA74A-90A7-49CA-B5CB-2FE93BA08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C4A2B-EB04-4444-BDB4-197AE4EC1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F9840-4B32-4921-B777-AB1642CE9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6D61A-4B8D-4743-9436-5D6ADC119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D0A-7996-4535-BDDF-439C0E41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34B-5A02-4997-841C-131B828B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7A4-12E6-406B-9785-86800EA1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E3D-27D3-4818-BCA3-1D9C24FB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B16-C9CF-404D-AD50-CBB96432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27E-E02C-4A97-9E16-87E0B448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A56-254E-471E-BE4D-312FA8E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FC2-F291-4700-A1EB-FCF1141B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8B0-461A-4FD7-A0A8-B178894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022-2570-4D74-BC01-58DA52C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385-374A-45E7-9DC9-9ED9BFA9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60D-C4F6-4815-8484-5277BE2D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EFC2-68A0-4615-955C-4E2392AB9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4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6120" y="2536560"/>
            <a:ext cx="7511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NCBI Molecular Biology Resour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Using NCBI BLAST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5680" y="5149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June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76160" y="507312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David Lan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andsman@ncbi.nlm.nih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9440" y="347400"/>
            <a:ext cx="76500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emplates for Discontiguous Wor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"/>
          <p:cNvSpPr/>
          <p:nvPr/>
        </p:nvSpPr>
        <p:spPr>
          <a:xfrm>
            <a:off x="355680" y="1371600"/>
            <a:ext cx="8432640" cy="3753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1, t = 16, 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1, t = 16, non-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2, t = 16, 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2, t = 16, non-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1, t = 18, 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1, t = 18, non-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2, t = 18, 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2, t = 18, non-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1, t = 21, 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1, t = 21, non-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2, t = 21, 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 = 12, t = 21, non-coding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9360" y="6026040"/>
            <a:ext cx="862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ference: Ma, B, Tromp, J, Li, M. </a:t>
            </a:r>
            <a:r>
              <a:rPr b="0" lang="en-US" sz="1600" spc="-1" strike="noStrike">
                <a:solidFill>
                  <a:srgbClr val="0066cc"/>
                </a:solidFill>
                <a:latin typeface="Lucida Sans Unicode"/>
              </a:rPr>
              <a:t>PatternHunter: faster and more sensitive homology search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Bioinformatics March, 2002; 18(3):440-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800" y="5162400"/>
            <a:ext cx="815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= word size; # matches in 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= template length (window size within which the word match is evalu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257800" y="1397160"/>
            <a:ext cx="2425680" cy="317520"/>
            <a:chOff x="5257800" y="1397160"/>
            <a:chExt cx="2425680" cy="317520"/>
          </a:xfrm>
        </p:grpSpPr>
        <p:sp>
          <p:nvSpPr>
            <p:cNvPr id="125" name=""/>
            <p:cNvSpPr/>
            <p:nvPr/>
          </p:nvSpPr>
          <p:spPr>
            <a:xfrm>
              <a:off x="5257800" y="1397160"/>
              <a:ext cx="266760" cy="317520"/>
            </a:xfrm>
            <a:prstGeom prst="rect">
              <a:avLst/>
            </a:prstGeom>
            <a:solidFill>
              <a:srgbClr val="00cc00">
                <a:alpha val="32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1397160"/>
              <a:ext cx="266760" cy="317520"/>
            </a:xfrm>
            <a:prstGeom prst="rect">
              <a:avLst/>
            </a:prstGeom>
            <a:solidFill>
              <a:srgbClr val="00cc00">
                <a:alpha val="32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1397160"/>
              <a:ext cx="266760" cy="317520"/>
            </a:xfrm>
            <a:prstGeom prst="rect">
              <a:avLst/>
            </a:prstGeom>
            <a:solidFill>
              <a:srgbClr val="00cc00">
                <a:alpha val="32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9400" y="1397160"/>
              <a:ext cx="266760" cy="317520"/>
            </a:xfrm>
            <a:prstGeom prst="rect">
              <a:avLst/>
            </a:prstGeom>
            <a:solidFill>
              <a:srgbClr val="00cc00">
                <a:alpha val="32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86600" y="1397160"/>
              <a:ext cx="266760" cy="317520"/>
            </a:xfrm>
            <a:prstGeom prst="rect">
              <a:avLst/>
            </a:prstGeom>
            <a:solidFill>
              <a:srgbClr val="00cc00">
                <a:alpha val="32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1200" y="1397160"/>
              <a:ext cx="152280" cy="317520"/>
            </a:xfrm>
            <a:prstGeom prst="rect">
              <a:avLst/>
            </a:prstGeom>
            <a:solidFill>
              <a:srgbClr val="00cc00">
                <a:alpha val="32000"/>
              </a:srgbClr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0320" y="3124080"/>
            <a:ext cx="4213080" cy="27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19160" y="7596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Local Alignment Statistic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119880" y="1141920"/>
            <a:ext cx="744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cores of local alignments between two random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the Extreme Valu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5120" y="3124080"/>
            <a:ext cx="3996000" cy="2621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74640" y="5486400"/>
            <a:ext cx="939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705240" y="4191480"/>
            <a:ext cx="207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892040" y="3602160"/>
            <a:ext cx="4035240" cy="2494800"/>
            <a:chOff x="4892040" y="3602160"/>
            <a:chExt cx="4035240" cy="2494800"/>
          </a:xfrm>
        </p:grpSpPr>
        <p:sp>
          <p:nvSpPr>
            <p:cNvPr id="138" name=""/>
            <p:cNvSpPr/>
            <p:nvPr/>
          </p:nvSpPr>
          <p:spPr>
            <a:xfrm>
              <a:off x="4980600" y="5698080"/>
              <a:ext cx="39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pplies to ungapped alignm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92040" y="3602160"/>
              <a:ext cx="3946320" cy="21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= Kmn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or   E = mn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S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 = scale for search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scale for scoring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’ = bitscore = 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 - lnK)/ln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28600" y="1924200"/>
            <a:ext cx="853452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number of database hits you expect to find by c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4852" b="0"/>
          <a:stretch/>
        </p:blipFill>
        <p:spPr>
          <a:xfrm>
            <a:off x="2374920" y="4809960"/>
            <a:ext cx="1214280" cy="676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74920" y="3608280"/>
            <a:ext cx="12600" cy="18576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124080"/>
            <a:ext cx="2057400" cy="420840"/>
          </a:xfrm>
          <a:prstGeom prst="wedgeRoundRectCallout">
            <a:avLst>
              <a:gd name="adj1" fmla="val -231"/>
              <a:gd name="adj2" fmla="val 146226"/>
              <a:gd name="adj3" fmla="val 16667"/>
            </a:avLst>
          </a:prstGeom>
          <a:solidFill>
            <a:srgbClr val="f57b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ze of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3693960"/>
            <a:ext cx="2057400" cy="420840"/>
          </a:xfrm>
          <a:prstGeom prst="wedgeRoundRectCallout">
            <a:avLst>
              <a:gd name="adj1" fmla="val -58643"/>
              <a:gd name="adj2" fmla="val 86981"/>
              <a:gd name="adj3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4430880"/>
            <a:ext cx="2336760" cy="598320"/>
          </a:xfrm>
          <a:prstGeom prst="wedgeRoundRectCallout">
            <a:avLst>
              <a:gd name="adj1" fmla="val -57606"/>
              <a:gd name="adj2" fmla="val 90050"/>
              <a:gd name="adj3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ed number of random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70160" y="-360"/>
            <a:ext cx="460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coring System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925560" y="1163160"/>
            <a:ext cx="7338600" cy="553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sition Independent Mat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ic Acids – identity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AM Matrices (Percent Accepted Mu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it model of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er PAM number all calculated from PA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M250 wid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6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LOSUM Matrices (</a:t>
            </a: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BLO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k </a:t>
            </a: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SU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stitution </a:t>
            </a: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M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tr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irically determined from al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conserved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includes information up to a certai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SUM62 wide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sition Specific Score Matrices (PSS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I and RPS 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74840" y="1008360"/>
            <a:ext cx="8194320" cy="544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 -1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-2  0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 -2 -2  1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0 -3 -3 -3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Q -1  1  0  0 -3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 -1  0  0  2 -4  2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  0 -2  0 -1 -3 -2 -2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 -2  0  1 -1 -3  0  0 -2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-1 -3 -3 -3 -1 -3 -3 -4 -3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 -1 -2 -3 -4 -1 -2 -3 -4 -3  2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 -1  2  0 -1 -3  1  1 -2 -1 -3 -2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 -1 -1 -2 -3 -1  0 -2 -3 -2  1  2 -1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 -2 -3 -3 -3 -2 -3 -3 -3 -1  0  0 -3  0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-1 -2 -2 -1 -3 -1 -1 -2 -2 -3 -3 -1 -2 -4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  1 -1  1  0 -1  0  0  0 -1 -2 -2  0 -1 -2 -1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  0 -1  0 -1 -1 -1 -1 -2 -2 -1 -1 -1 -1 -2 -1  1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 -3 -3 -4 -4 -2 -2 -3 -2 -2 -3 -2 -3 -1  1 -4 -3 -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-2 -2 -2 -3 -2 -1 -2 -3  2 -1 -1 -2 -1  3 -3 -2 -2  2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  0 -3 -3 -3 -1 -2 -2 -3 -3  3  1 -2  1 -1 -2 -2  0 -3 -1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 0 -1 -1 -1 -2 -1 -1 -1 -1 -1 -1 -1 -1 -1 -2  0  0 -2 -1 -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 R  N  D  C  Q  E  G  H  I  L  K  M  F  P  S  T  W  Y  V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89080" y="274680"/>
            <a:ext cx="32605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OSUM6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965320" y="1730520"/>
            <a:ext cx="4654080" cy="1748880"/>
            <a:chOff x="2965320" y="1730520"/>
            <a:chExt cx="4654080" cy="1748880"/>
          </a:xfrm>
        </p:grpSpPr>
        <p:sp>
          <p:nvSpPr>
            <p:cNvPr id="151" name=""/>
            <p:cNvSpPr/>
            <p:nvPr/>
          </p:nvSpPr>
          <p:spPr>
            <a:xfrm>
              <a:off x="2965320" y="1730520"/>
              <a:ext cx="4654080" cy="399240"/>
            </a:xfrm>
            <a:prstGeom prst="wedgeRectCallout">
              <a:avLst>
                <a:gd name="adj1" fmla="val -20509"/>
                <a:gd name="adj2" fmla="val 31756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on amino acids have low weigh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41800" y="3174840"/>
              <a:ext cx="27144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353040" y="3508920"/>
            <a:ext cx="4272840" cy="1977480"/>
            <a:chOff x="3353040" y="3508920"/>
            <a:chExt cx="4272840" cy="1977480"/>
          </a:xfrm>
        </p:grpSpPr>
        <p:sp>
          <p:nvSpPr>
            <p:cNvPr id="154" name=""/>
            <p:cNvSpPr/>
            <p:nvPr/>
          </p:nvSpPr>
          <p:spPr>
            <a:xfrm>
              <a:off x="3353040" y="3508920"/>
              <a:ext cx="4272840" cy="399240"/>
            </a:xfrm>
            <a:prstGeom prst="wedgeRectCallout">
              <a:avLst>
                <a:gd name="adj1" fmla="val 38740"/>
                <a:gd name="adj2" fmla="val 34945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re amino acids have high weigh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85080" y="5105520"/>
              <a:ext cx="33012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1"/>
          <a:srcRect l="13684" t="14963" r="19386" b="7482"/>
          <a:stretch/>
        </p:blipFill>
        <p:spPr>
          <a:xfrm>
            <a:off x="514440" y="1195560"/>
            <a:ext cx="238284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370080" y="4165560"/>
            <a:ext cx="4201560" cy="1240920"/>
            <a:chOff x="370080" y="4165560"/>
            <a:chExt cx="4201560" cy="1240920"/>
          </a:xfrm>
        </p:grpSpPr>
        <p:sp>
          <p:nvSpPr>
            <p:cNvPr id="158" name=""/>
            <p:cNvSpPr/>
            <p:nvPr/>
          </p:nvSpPr>
          <p:spPr>
            <a:xfrm>
              <a:off x="1828800" y="41655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0080" y="5007240"/>
              <a:ext cx="4201560" cy="399240"/>
            </a:xfrm>
            <a:prstGeom prst="wedgeRectCallout">
              <a:avLst>
                <a:gd name="adj1" fmla="val -10453"/>
                <a:gd name="adj2" fmla="val -17134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gative for less likely substit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rcRect l="18425" t="14291" r="22520" b="11909"/>
          <a:stretch/>
        </p:blipFill>
        <p:spPr>
          <a:xfrm>
            <a:off x="3830760" y="1193760"/>
            <a:ext cx="2341440" cy="28321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586520" y="1143000"/>
            <a:ext cx="4661640" cy="5154120"/>
            <a:chOff x="1586520" y="1143000"/>
            <a:chExt cx="4661640" cy="5154120"/>
          </a:xfrm>
        </p:grpSpPr>
        <p:grpSp>
          <p:nvGrpSpPr>
            <p:cNvPr id="162" name=""/>
            <p:cNvGrpSpPr/>
            <p:nvPr/>
          </p:nvGrpSpPr>
          <p:grpSpPr>
            <a:xfrm>
              <a:off x="1586520" y="5437080"/>
              <a:ext cx="4314240" cy="860040"/>
              <a:chOff x="1586520" y="5437080"/>
              <a:chExt cx="4314240" cy="860040"/>
            </a:xfrm>
          </p:grpSpPr>
          <p:sp>
            <p:nvSpPr>
              <p:cNvPr id="163" name=""/>
              <p:cNvSpPr/>
              <p:nvPr/>
            </p:nvSpPr>
            <p:spPr>
              <a:xfrm>
                <a:off x="1586520" y="5897880"/>
                <a:ext cx="4213440" cy="399240"/>
              </a:xfrm>
              <a:prstGeom prst="wedgeRectCallout">
                <a:avLst>
                  <a:gd name="adj1" fmla="val 50902"/>
                  <a:gd name="adj2" fmla="val -66754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ositive for more likely substitu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29320" y="5437080"/>
                <a:ext cx="27144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5" name="" descr=""/>
            <p:cNvPicPr/>
            <p:nvPr/>
          </p:nvPicPr>
          <p:blipFill>
            <a:blip r:embed="rId3"/>
            <a:srcRect l="15381" t="14585" r="19775" b="9723"/>
            <a:stretch/>
          </p:blipFill>
          <p:spPr>
            <a:xfrm>
              <a:off x="3851280" y="1143000"/>
              <a:ext cx="2396880" cy="2846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955" t="9043" r="2865" b="5168"/>
          <a:stretch/>
        </p:blipFill>
        <p:spPr>
          <a:xfrm>
            <a:off x="685800" y="1049400"/>
            <a:ext cx="7759800" cy="575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4040" y="385560"/>
            <a:ext cx="80359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Position Specific Substitution Rate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"/>
          <p:cNvSpPr/>
          <p:nvPr/>
        </p:nvSpPr>
        <p:spPr>
          <a:xfrm>
            <a:off x="6874920" y="3243600"/>
            <a:ext cx="2139480" cy="368640"/>
          </a:xfrm>
          <a:prstGeom prst="wedgeRectCallout">
            <a:avLst>
              <a:gd name="adj1" fmla="val -79203"/>
              <a:gd name="adj2" fmla="val 208046"/>
            </a:avLst>
          </a:prstGeom>
          <a:solidFill>
            <a:srgbClr val="6666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ac6"/>
                </a:solidFill>
                <a:latin typeface="Comic Sans MS"/>
              </a:rPr>
              <a:t>Active site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1371600"/>
            <a:ext cx="152280" cy="548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1295280"/>
            <a:ext cx="152280" cy="556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68920" y="3059640"/>
            <a:ext cx="1752480" cy="368640"/>
          </a:xfrm>
          <a:prstGeom prst="wedgeRectCallout">
            <a:avLst>
              <a:gd name="adj1" fmla="val 89472"/>
              <a:gd name="adj2" fmla="val 264435"/>
            </a:avLst>
          </a:prstGeom>
          <a:solidFill>
            <a:srgbClr val="6666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ac6"/>
                </a:solidFill>
                <a:latin typeface="Comic Sans MS"/>
              </a:rPr>
              <a:t>Typical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496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Position Specific Score Matrix (PSS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"/>
          <p:cNvSpPr/>
          <p:nvPr/>
        </p:nvSpPr>
        <p:spPr>
          <a:xfrm>
            <a:off x="150480" y="1270800"/>
            <a:ext cx="8593920" cy="4961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 R  N  D  C  Q  E  G  H  I  L  K  M  F  P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T  W  Y 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6 D    0 -2  0  2 -4  2  4 -4 -3 -5 -4  0 -2 -6  1  0 -1 -6 -4 -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7 G   -2 -1  0 -2 -4 -3 -3  6 -4 -5 -5  0 -2 -3 -2 -2 -1  0 -6 -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8 V   -1  1 -3 -3 -5 -1 -2  6 -1 -4 -5  1 -5 -6 -4  0 -2 -6 -4 -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9 I   -3  3 -3 -4 -6  0 -1 -4 -1  2 -4  6 -2 -5 -5 -3  0 -1 -4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-2 -5  0  8 -5 -3 -2 -1 -4 -7 -6 -4 -6 -7 -5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-3 -7 -5 -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1 S    4 -4 -4 -4 -4 -1 -4 -2 -3 -3 -5 -4 -4 -5 -1  4  3 -6 -5 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2 C   -4 -7 -6 -7 12 -7 -7 -5 -6 -5 -5 -7 -5  0 -7 -4 -4 -5  0 -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3 N   -2  0  2 -1 -6  7  0 -2  0 -6 -4  2  0 -2 -5 -1 -3 -3 -4 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4 G   -2 -3 -3 -4 -4 -4 -5  7 -4 -7 -7 -5 -4 -4 -6 -3 -5 -6 -6 -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5 D   -5 -5 -2  9 -7 -4 -1 -5 -5 -7 -7 -4 -7 -7 -5 -4 -4 -8 -7 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-2 -4 -2 -4 -4 -3 -3 -3 -4 -6 -6 -3 -5 -6 -4  7 -2 -6 -5 -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7 G   -3 -6 -4 -5 -6 -5 -6  8 -6 -8 -7 -5 -6 -7 -6 -4 -5 -6 -7 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8 G   -3 -6 -4 -5 -6 -5 -6  8 -6 -7 -7 -5 -6 -7 -6 -2 -4 -6 -7 -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9 P   -2 -6 -6 -5 -6 -5 -5 -6 -6 -6 -7 -4 -6 -7  9 -4 -4 -7 -7 -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0 L   -4 -6 -7 -7 -5 -5 -6 -7  0 -1  6 -6  1  0 -6 -6 -5 -5 -4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1 N   -1 -6  0 -6 -4 -4 -6 -6 -1  3  0 -5  4 -3 -6 -2 -1 -6 -1  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2 C    0 -4 -5 -5 10 -2 -5 -5  1 -1 -1 -5  0 -1 -4 -1  0 -5  0 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3 Q    0  1  4  2 -5  2  0  0  0 -4 -2  1  0  0  0 -1 -1 -3 -3 -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4 A   -1 -1  1  3 -4 -1  1  4 -3 -4 -3 -1 -2 -2 -3  0 -2 -2 -2 -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3971880"/>
            <a:ext cx="8383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2743200"/>
            <a:ext cx="83833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46720" y="3170520"/>
            <a:ext cx="2926800" cy="703800"/>
          </a:xfrm>
          <a:prstGeom prst="rect">
            <a:avLst/>
          </a:prstGeom>
          <a:solidFill>
            <a:srgbClr val="6666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rine scored diffe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these two 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3971880"/>
            <a:ext cx="314280" cy="304920"/>
          </a:xfrm>
          <a:prstGeom prst="rect">
            <a:avLst/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43720" y="4592880"/>
            <a:ext cx="2700360" cy="399240"/>
          </a:xfrm>
          <a:prstGeom prst="wedgeRectCallout">
            <a:avLst>
              <a:gd name="adj1" fmla="val -70884"/>
              <a:gd name="adj2" fmla="val -136305"/>
            </a:avLst>
          </a:prstGeom>
          <a:solidFill>
            <a:srgbClr val="6666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tive site nucleop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96160" y="1254240"/>
            <a:ext cx="266760" cy="499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516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Gapped Alignmen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"/>
          <p:cNvSpPr/>
          <p:nvPr/>
        </p:nvSpPr>
        <p:spPr>
          <a:xfrm>
            <a:off x="504360" y="2239200"/>
            <a:ext cx="840528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Gapping provides more biologically realistic al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Gapped BLAST parameters must be sim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Affine gap costs = -(a+b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Lucida Sans Unicode"/>
              </a:rPr>
              <a:t>a = gap open penalty    b = gap extend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Lucida Sans Unicode"/>
              </a:rPr>
              <a:t>A gap of length 1 receives the score -(a+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2840" y="274320"/>
            <a:ext cx="203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cor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"/>
          <p:cNvSpPr/>
          <p:nvPr/>
        </p:nvSpPr>
        <p:spPr>
          <a:xfrm>
            <a:off x="681480" y="2200320"/>
            <a:ext cx="7648200" cy="2067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V   D  S  –   C 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V   E  T  L   C 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LOSUM62 +4  +2 +1 -12  +9 +3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M30    +7  +2  0 -10 +10 +2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</a:rPr>
              <a:t>11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Flavors of BLA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0080" y="1142640"/>
            <a:ext cx="5767560" cy="54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osition independent scoring 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Standard BLAST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traditional contiguous word hit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nucleotide, protein and translations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Megablast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can use discontiguous words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nucleotide only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optimized for large batch searches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Position dependent scoring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SI-BLAST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constructs PSSMs automatically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earches protein database with PSSMs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PS BLAST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earches a database of PSSMs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basis of conserved domain database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45880" y="2536560"/>
            <a:ext cx="32497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WW BLA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3335"/>
          <a:stretch/>
        </p:blipFill>
        <p:spPr>
          <a:xfrm>
            <a:off x="380880" y="1219320"/>
            <a:ext cx="8382240" cy="544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6782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quence Similarity Search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287680"/>
            <a:ext cx="66945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0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asic </a:t>
            </a:r>
            <a:r>
              <a:rPr b="1" lang="en-US" sz="3200" spc="-1" strike="noStrike" u="sng">
                <a:solidFill>
                  <a:srgbClr val="9966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ocal </a:t>
            </a:r>
            <a:r>
              <a:rPr b="1" lang="en-US" sz="3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lignment </a:t>
            </a:r>
            <a:r>
              <a:rPr b="1" lang="en-US" sz="3200" spc="-1" strike="noStrike" u="sng">
                <a:solidFill>
                  <a:srgbClr val="9966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earch </a:t>
            </a:r>
            <a:r>
              <a:rPr b="1" lang="en-US" sz="3200" spc="-1" strike="noStrike" u="sng">
                <a:solidFill>
                  <a:srgbClr val="9966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oo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3479" r="3500" b="1452"/>
          <a:stretch/>
        </p:blipFill>
        <p:spPr>
          <a:xfrm>
            <a:off x="1523880" y="1041480"/>
            <a:ext cx="6363000" cy="5713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25720" y="303840"/>
            <a:ext cx="4984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BLAST homepag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743200" y="3581280"/>
            <a:ext cx="5094000" cy="3200400"/>
            <a:chOff x="2743200" y="3581280"/>
            <a:chExt cx="5094000" cy="3200400"/>
          </a:xfrm>
        </p:grpSpPr>
        <p:sp>
          <p:nvSpPr>
            <p:cNvPr id="190" name=""/>
            <p:cNvSpPr/>
            <p:nvPr/>
          </p:nvSpPr>
          <p:spPr>
            <a:xfrm>
              <a:off x="5338440" y="495288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pecialized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743200" y="3581280"/>
              <a:ext cx="5029200" cy="3200400"/>
              <a:chOff x="2743200" y="3581280"/>
              <a:chExt cx="5029200" cy="3200400"/>
            </a:xfrm>
          </p:grpSpPr>
          <p:sp>
            <p:nvSpPr>
              <p:cNvPr id="192" name=""/>
              <p:cNvSpPr/>
              <p:nvPr/>
            </p:nvSpPr>
            <p:spPr>
              <a:xfrm>
                <a:off x="2743200" y="5333760"/>
                <a:ext cx="0" cy="144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43200" y="5333760"/>
                <a:ext cx="25905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333760" y="3581280"/>
                <a:ext cx="0" cy="1752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33760" y="3581280"/>
                <a:ext cx="2438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72400" y="3581280"/>
                <a:ext cx="0" cy="18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33760" y="5333760"/>
                <a:ext cx="2438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57800" y="5333760"/>
                <a:ext cx="0" cy="144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6781680"/>
                <a:ext cx="25146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2666880" y="2133720"/>
            <a:ext cx="5105520" cy="3124080"/>
            <a:chOff x="2666880" y="2133720"/>
            <a:chExt cx="5105520" cy="3124080"/>
          </a:xfrm>
        </p:grpSpPr>
        <p:sp>
          <p:nvSpPr>
            <p:cNvPr id="201" name=""/>
            <p:cNvSpPr/>
            <p:nvPr/>
          </p:nvSpPr>
          <p:spPr>
            <a:xfrm>
              <a:off x="5257800" y="3581280"/>
              <a:ext cx="251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666880" y="2133720"/>
              <a:ext cx="5105520" cy="3124080"/>
              <a:chOff x="2666880" y="2133720"/>
              <a:chExt cx="5105520" cy="3124080"/>
            </a:xfrm>
          </p:grpSpPr>
          <p:sp>
            <p:nvSpPr>
              <p:cNvPr id="203" name=""/>
              <p:cNvSpPr/>
              <p:nvPr/>
            </p:nvSpPr>
            <p:spPr>
              <a:xfrm>
                <a:off x="2666880" y="2133720"/>
                <a:ext cx="0" cy="1143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66880" y="5257800"/>
                <a:ext cx="2590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5257800" y="3580920"/>
                <a:ext cx="0" cy="167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66880" y="2133720"/>
                <a:ext cx="51055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72400" y="2133720"/>
                <a:ext cx="0" cy="1447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97840" y="3236760"/>
                <a:ext cx="222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Standard datab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666880" y="3581280"/>
                <a:ext cx="0" cy="16765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66880" y="3276720"/>
                <a:ext cx="2438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666880" y="3581280"/>
                <a:ext cx="2438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05520" y="3276720"/>
                <a:ext cx="0" cy="3045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1452" t="9878" r="2465" b="7449"/>
          <a:stretch/>
        </p:blipFill>
        <p:spPr>
          <a:xfrm>
            <a:off x="228600" y="1066680"/>
            <a:ext cx="6629400" cy="474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258480"/>
            <a:ext cx="87310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LAST Databases: Non-redundant prote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7920" y="1980720"/>
            <a:ext cx="6248520" cy="458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nr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non-redundant protein sequences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GenBank CDS translation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NP_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RefSeq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Outside Protei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PIR,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Swiss-Prot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, PRF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</a:rPr>
              <a:t>PDB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6600"/>
                </a:solidFill>
                <a:latin typeface="Arial"/>
              </a:rPr>
              <a:t>(sequences from structures)</a:t>
            </a:r>
            <a:endParaRPr b="0" lang="en-US" sz="16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pat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e4000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patents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env_nr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environmental samples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1001" t="11383" r="4001" b="7239"/>
          <a:stretch/>
        </p:blipFill>
        <p:spPr>
          <a:xfrm>
            <a:off x="838080" y="1295280"/>
            <a:ext cx="723924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AST Databases: Nucleic Aci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17114" t="49980" r="63915" b="7502"/>
          <a:stretch/>
        </p:blipFill>
        <p:spPr>
          <a:xfrm>
            <a:off x="3733920" y="2819520"/>
            <a:ext cx="1449360" cy="35226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3505320" cy="3894120"/>
          </a:xfrm>
          <a:prstGeom prst="rect">
            <a:avLst/>
          </a:prstGeom>
          <a:solidFill>
            <a:srgbClr val="bbe0e3">
              <a:alpha val="83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r (nt)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Traditional GenBank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NM_ and XM_ RefSeqs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fseq_rna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seq_genomic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NC_ RefSeqs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bes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EST Division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st_human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ouse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thers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962520" cy="4221360"/>
          </a:xfrm>
          <a:prstGeom prst="rect">
            <a:avLst/>
          </a:prstGeom>
          <a:solidFill>
            <a:srgbClr val="bbe0e3">
              <a:alpha val="83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gs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HTG division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ss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GSS division</a:t>
            </a: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g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whole genome shotgun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v_nt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environmental samples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440080" y="18288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0 M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8480" y="3124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M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5720" y="4114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0 M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95960" y="569916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zheime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5699160"/>
            <a:ext cx="17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x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angiect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87840" y="5699160"/>
            <a:ext cx="9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73360" y="569916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cre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ci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95080" y="5257800"/>
            <a:ext cx="7793640" cy="398880"/>
            <a:chOff x="595080" y="5257800"/>
            <a:chExt cx="7793640" cy="398880"/>
          </a:xfrm>
        </p:grpSpPr>
        <p:sp>
          <p:nvSpPr>
            <p:cNvPr id="229" name=""/>
            <p:cNvSpPr/>
            <p:nvPr/>
          </p:nvSpPr>
          <p:spPr>
            <a:xfrm>
              <a:off x="5787000" y="52578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Ye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2160" y="525780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Bacte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15640" y="52578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W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5000" y="525780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F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5080" y="525780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Arial"/>
                </a:rPr>
                <a:t>Hum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99840" y="2057400"/>
            <a:ext cx="5943960" cy="3124080"/>
            <a:chOff x="1599840" y="2057400"/>
            <a:chExt cx="5943960" cy="3124080"/>
          </a:xfrm>
        </p:grpSpPr>
        <p:sp>
          <p:nvSpPr>
            <p:cNvPr id="235" name=""/>
            <p:cNvSpPr/>
            <p:nvPr/>
          </p:nvSpPr>
          <p:spPr>
            <a:xfrm>
              <a:off x="4572000" y="2057400"/>
              <a:ext cx="297180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76720" y="3429000"/>
              <a:ext cx="274320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599840" y="2057400"/>
              <a:ext cx="297180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38280" y="4343400"/>
              <a:ext cx="18288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38280" y="4343400"/>
              <a:ext cx="763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63760" y="151920"/>
            <a:ext cx="638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LAST and Molecular Evolu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90920" y="4800600"/>
            <a:ext cx="7508880" cy="372960"/>
            <a:chOff x="790920" y="4800600"/>
            <a:chExt cx="7508880" cy="372960"/>
          </a:xfrm>
        </p:grpSpPr>
        <p:sp>
          <p:nvSpPr>
            <p:cNvPr id="242" name=""/>
            <p:cNvSpPr/>
            <p:nvPr/>
          </p:nvSpPr>
          <p:spPr>
            <a:xfrm>
              <a:off x="790920" y="4800600"/>
              <a:ext cx="802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MLH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71880" y="4805280"/>
              <a:ext cx="7279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Mut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46440" y="274320"/>
            <a:ext cx="545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Protein BLAST Pag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80880" y="1184400"/>
            <a:ext cx="7925040" cy="5449680"/>
            <a:chOff x="380880" y="1184400"/>
            <a:chExt cx="7925040" cy="544968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rcRect l="1017" t="7838" r="3050" b="5225"/>
            <a:stretch/>
          </p:blipFill>
          <p:spPr>
            <a:xfrm>
              <a:off x="380880" y="1184400"/>
              <a:ext cx="7925040" cy="544968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247" name=""/>
            <p:cNvSpPr/>
            <p:nvPr/>
          </p:nvSpPr>
          <p:spPr>
            <a:xfrm>
              <a:off x="1622880" y="2971800"/>
              <a:ext cx="541224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Mutated in Colon Ca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ETVYAAYLPKNTHPFLYLSLEISPQNVDVNVHPTKHEVHFLHEES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QQHIESKLLGSNSSRMYFTQTLLPGLAGPSGEMVKSTTSLTSSSTS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KVYAHQMVRTDSREQKLDAFLQPLSKPL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416560" y="4736160"/>
            <a:ext cx="2022120" cy="368640"/>
          </a:xfrm>
          <a:prstGeom prst="wedgeRectCallout">
            <a:avLst>
              <a:gd name="adj1" fmla="val -148199"/>
              <a:gd name="adj2" fmla="val 3809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8040" y="5257800"/>
            <a:ext cx="431640" cy="976320"/>
          </a:xfrm>
          <a:prstGeom prst="downArrow">
            <a:avLst>
              <a:gd name="adj1" fmla="val 50000"/>
              <a:gd name="adj2" fmla="val 5654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3494" t="11833" r="3345" b="37600"/>
          <a:stretch/>
        </p:blipFill>
        <p:spPr>
          <a:xfrm>
            <a:off x="152280" y="1447920"/>
            <a:ext cx="8610840" cy="419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dvanced Options: Entrez limi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"/>
          <p:cNvSpPr/>
          <p:nvPr/>
        </p:nvSpPr>
        <p:spPr>
          <a:xfrm>
            <a:off x="42512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46678" t="21381" r="10418" b="26114"/>
          <a:stretch/>
        </p:blipFill>
        <p:spPr>
          <a:xfrm>
            <a:off x="4419720" y="2133720"/>
            <a:ext cx="4068720" cy="457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4" name=""/>
          <p:cNvSpPr/>
          <p:nvPr/>
        </p:nvSpPr>
        <p:spPr>
          <a:xfrm>
            <a:off x="471960" y="3061080"/>
            <a:ext cx="3760920" cy="2563200"/>
          </a:xfrm>
          <a:prstGeom prst="wedgeRectCallout">
            <a:avLst>
              <a:gd name="adj1" fmla="val -9513"/>
              <a:gd name="adj2" fmla="val -7434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[Filter] NOT mammals[Organis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ne_in_mitochondrion[Properti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003:2005 [Modification Dat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pa[Filt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mol_mrna[Properti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iomol_genomic[Properti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rcRect l="3494" t="11833" r="3345" b="37600"/>
          <a:stretch/>
        </p:blipFill>
        <p:spPr>
          <a:xfrm>
            <a:off x="152280" y="1447920"/>
            <a:ext cx="8610840" cy="419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dvanced Options: Filt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"/>
          <p:cNvSpPr/>
          <p:nvPr/>
        </p:nvSpPr>
        <p:spPr>
          <a:xfrm>
            <a:off x="42512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3520" y="3505320"/>
            <a:ext cx="8458200" cy="3052800"/>
            <a:chOff x="533520" y="3505320"/>
            <a:chExt cx="8458200" cy="305280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rcRect l="3596" t="72127" r="21576" b="14584"/>
            <a:stretch/>
          </p:blipFill>
          <p:spPr>
            <a:xfrm>
              <a:off x="609840" y="3505320"/>
              <a:ext cx="8381880" cy="674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60" name=""/>
            <p:cNvSpPr/>
            <p:nvPr/>
          </p:nvSpPr>
          <p:spPr>
            <a:xfrm>
              <a:off x="533520" y="4572000"/>
              <a:ext cx="2130480" cy="487440"/>
            </a:xfrm>
            <a:prstGeom prst="wedgeRoundRectCallout">
              <a:avLst>
                <a:gd name="adj1" fmla="val 45009"/>
                <a:gd name="adj2" fmla="val -185504"/>
                <a:gd name="adj3" fmla="val 16667"/>
              </a:avLst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fault se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43840" y="5102280"/>
              <a:ext cx="2986560" cy="693720"/>
            </a:xfrm>
            <a:prstGeom prst="wedgeRoundRectCallout">
              <a:avLst>
                <a:gd name="adj1" fmla="val 33101"/>
                <a:gd name="adj2" fmla="val -225828"/>
                <a:gd name="adj3" fmla="val 16667"/>
              </a:avLst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des low complex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initial word hits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4440" y="5864400"/>
              <a:ext cx="3361320" cy="693720"/>
            </a:xfrm>
            <a:prstGeom prst="wedgeRoundRectCallout">
              <a:avLst>
                <a:gd name="adj1" fmla="val 53972"/>
                <a:gd name="adj2" fmla="val -314574"/>
                <a:gd name="adj3" fmla="val 16667"/>
              </a:avLst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ks regions of quer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lower case (pre-mask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3494" t="11833" r="3345" b="37600"/>
          <a:stretch/>
        </p:blipFill>
        <p:spPr>
          <a:xfrm>
            <a:off x="152280" y="1447920"/>
            <a:ext cx="8610840" cy="419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dvanced Options: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position based sta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"/>
          <p:cNvSpPr/>
          <p:nvPr/>
        </p:nvSpPr>
        <p:spPr>
          <a:xfrm>
            <a:off x="42512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rcRect l="20596" t="50011" r="29175" b="21934"/>
          <a:stretch/>
        </p:blipFill>
        <p:spPr>
          <a:xfrm>
            <a:off x="1676520" y="2830680"/>
            <a:ext cx="4647960" cy="1360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67" name=""/>
          <p:cNvGrpSpPr/>
          <p:nvPr/>
        </p:nvGrpSpPr>
        <p:grpSpPr>
          <a:xfrm>
            <a:off x="4046040" y="1143000"/>
            <a:ext cx="4767840" cy="5208840"/>
            <a:chOff x="4046040" y="1143000"/>
            <a:chExt cx="4767840" cy="5208840"/>
          </a:xfrm>
        </p:grpSpPr>
        <p:sp>
          <p:nvSpPr>
            <p:cNvPr id="268" name=""/>
            <p:cNvSpPr/>
            <p:nvPr/>
          </p:nvSpPr>
          <p:spPr>
            <a:xfrm>
              <a:off x="4046040" y="1143000"/>
              <a:ext cx="4767840" cy="520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mino acid compos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a (A)  42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19.6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rg (R)   4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1.9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sn (N)   4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1.9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sp (D)   1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0.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ys (C)   0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0.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ln (Q)   2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0.9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lu (E)   6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2.8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ly (G)  13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6.1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is (H)   0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0.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le (I)   3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1.4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eu (L)  10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4.7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ys (K)  57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26.6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et (M)   0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0.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he (F)   1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0.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 (P)  19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8.9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r (S)  23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10.7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hr (T)  14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6.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rp (W)   0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0.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r (Y)   1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0.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al (V)  14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6.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egatively charged residues (Asp + Glu):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ositively charged residues (Arg + Lys): 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94040" y="12193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stone H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rcRect l="1280" t="10512" r="3074" b="4309"/>
          <a:stretch/>
        </p:blipFill>
        <p:spPr>
          <a:xfrm>
            <a:off x="846000" y="1052640"/>
            <a:ext cx="7518600" cy="55926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1000" y="274320"/>
            <a:ext cx="66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AST Formatting Pag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"/>
          <p:cNvSpPr/>
          <p:nvPr/>
        </p:nvSpPr>
        <p:spPr>
          <a:xfrm>
            <a:off x="1055520" y="4695840"/>
            <a:ext cx="419400" cy="942840"/>
          </a:xfrm>
          <a:prstGeom prst="downArrow">
            <a:avLst>
              <a:gd name="adj1" fmla="val 50000"/>
              <a:gd name="adj2" fmla="val 5620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3840" y="5574240"/>
            <a:ext cx="2131560" cy="368640"/>
          </a:xfrm>
          <a:prstGeom prst="wedgeRectCallout">
            <a:avLst>
              <a:gd name="adj1" fmla="val -151097"/>
              <a:gd name="adj2" fmla="val -310583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rved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rcRect l="1733" t="10953" r="6563" b="4289"/>
          <a:stretch/>
        </p:blipFill>
        <p:spPr>
          <a:xfrm>
            <a:off x="2209680" y="1143000"/>
            <a:ext cx="4749840" cy="556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694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LAST Output: Graphical Overvie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"/>
          <p:cNvSpPr/>
          <p:nvPr/>
        </p:nvSpPr>
        <p:spPr>
          <a:xfrm>
            <a:off x="5002200" y="4196160"/>
            <a:ext cx="1609200" cy="399240"/>
          </a:xfrm>
          <a:prstGeom prst="wedgeRectCallout">
            <a:avLst>
              <a:gd name="adj1" fmla="val -88939"/>
              <a:gd name="adj2" fmla="val -260629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use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7720" y="1680120"/>
            <a:ext cx="1957680" cy="368640"/>
          </a:xfrm>
          <a:prstGeom prst="wedgeRectCallout">
            <a:avLst>
              <a:gd name="adj1" fmla="val 51962"/>
              <a:gd name="adj2" fmla="val -1388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 by tax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hat BLAST tells you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BLAST reports surprising alignments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Different than chance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Random sequence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onstant compositio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Surprising similarities imply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evolutionary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homology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7913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tionary Homology: descent from a common ance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always imply simil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5040" y="-360"/>
            <a:ext cx="76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AST Output: Descrip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1393" t="13580" r="3620" b="25292"/>
          <a:stretch/>
        </p:blipFill>
        <p:spPr>
          <a:xfrm>
            <a:off x="990720" y="1076400"/>
            <a:ext cx="7619760" cy="437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2"/>
          <a:srcRect l="0" t="71690" r="2812" b="4950"/>
          <a:stretch/>
        </p:blipFill>
        <p:spPr>
          <a:xfrm>
            <a:off x="990720" y="5586480"/>
            <a:ext cx="7619760" cy="119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281" name=""/>
          <p:cNvGrpSpPr/>
          <p:nvPr/>
        </p:nvGrpSpPr>
        <p:grpSpPr>
          <a:xfrm>
            <a:off x="185760" y="1135080"/>
            <a:ext cx="6859440" cy="4054320"/>
            <a:chOff x="185760" y="1135080"/>
            <a:chExt cx="6859440" cy="4054320"/>
          </a:xfrm>
        </p:grpSpPr>
        <p:sp>
          <p:nvSpPr>
            <p:cNvPr id="282" name=""/>
            <p:cNvSpPr/>
            <p:nvPr/>
          </p:nvSpPr>
          <p:spPr>
            <a:xfrm>
              <a:off x="185760" y="2671920"/>
              <a:ext cx="2010960" cy="460080"/>
            </a:xfrm>
            <a:prstGeom prst="wedgeRectCallout">
              <a:avLst>
                <a:gd name="adj1" fmla="val 81375"/>
                <a:gd name="adj2" fmla="val -221615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 to ent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99760" y="1135080"/>
              <a:ext cx="2704680" cy="460080"/>
            </a:xfrm>
            <a:prstGeom prst="wedgeRectCallout">
              <a:avLst>
                <a:gd name="adj1" fmla="val -10050"/>
                <a:gd name="adj2" fmla="val -9425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rted by e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02840" y="1986120"/>
              <a:ext cx="1319400" cy="460080"/>
            </a:xfrm>
            <a:prstGeom prst="wedgeRectCallout">
              <a:avLst>
                <a:gd name="adj1" fmla="val 160527"/>
                <a:gd name="adj2" fmla="val -8658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X 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53040" y="4729320"/>
              <a:ext cx="3468240" cy="460080"/>
            </a:xfrm>
            <a:prstGeom prst="wedgeRectCallout">
              <a:avLst>
                <a:gd name="adj1" fmla="val 54990"/>
                <a:gd name="adj2" fmla="val 37697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ault e value cutoff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52600" y="3052800"/>
              <a:ext cx="1992600" cy="460080"/>
            </a:xfrm>
            <a:prstGeom prst="wedgeRectCallout">
              <a:avLst>
                <a:gd name="adj1" fmla="val 110148"/>
                <a:gd name="adj2" fmla="val -30496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e Link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5120" y="-360"/>
            <a:ext cx="82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axBLAST: Taxonomy Repor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1173" t="11812" r="6298" b="4430"/>
          <a:stretch/>
        </p:blipFill>
        <p:spPr>
          <a:xfrm>
            <a:off x="1676520" y="1219320"/>
            <a:ext cx="5486400" cy="541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4240" y="2333520"/>
            <a:ext cx="8867520" cy="2148120"/>
          </a:xfrm>
          <a:prstGeom prst="rect">
            <a:avLst/>
          </a:prstGeom>
          <a:solidFill>
            <a:srgbClr val="ffff79"/>
          </a:solidFill>
          <a:ln w="12600">
            <a:solidFill>
              <a:srgbClr val="ff99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ff"/>
                </a:solidFill>
                <a:latin typeface="Courier New"/>
              </a:rPr>
              <a:t>&gt;gi|127552|sp|P23367|MUTL_ECOLI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DNA mismatch repair protein mut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ength = 6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ore = 42.0 bits (97),  Expect = 3e-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dentities = 26/59 (44%), Positives = 33/59 (55%), Gaps = 9/59 (15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Query  9    LPKNTHPFLYLSLEISPQNVDVNVHPTKHEVHF-----LHE---ESILEV-QQHIESKL  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  +  P   L LEI P  VDVNVHP KHEV F     +H+   + +L V QQ +E+ 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bjct  280  LGADQQPAFVLYLEIDPHQVDVNVHPAKHEVRFHQSRLVHDFIYQGVLSVLQQQLETPL  33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AST Output: Alignmen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57200" y="3657600"/>
            <a:ext cx="7676640" cy="2641680"/>
            <a:chOff x="457200" y="3657600"/>
            <a:chExt cx="7676640" cy="2641680"/>
          </a:xfrm>
        </p:grpSpPr>
        <p:grpSp>
          <p:nvGrpSpPr>
            <p:cNvPr id="292" name=""/>
            <p:cNvGrpSpPr/>
            <p:nvPr/>
          </p:nvGrpSpPr>
          <p:grpSpPr>
            <a:xfrm>
              <a:off x="457200" y="3733920"/>
              <a:ext cx="2130480" cy="1815840"/>
              <a:chOff x="457200" y="3733920"/>
              <a:chExt cx="2130480" cy="1815840"/>
            </a:xfrm>
          </p:grpSpPr>
          <p:sp>
            <p:nvSpPr>
              <p:cNvPr id="293" name=""/>
              <p:cNvSpPr/>
              <p:nvPr/>
            </p:nvSpPr>
            <p:spPr>
              <a:xfrm>
                <a:off x="457200" y="5062320"/>
                <a:ext cx="2130480" cy="487440"/>
              </a:xfrm>
              <a:prstGeom prst="wedgeRoundRectCallout">
                <a:avLst>
                  <a:gd name="adj1" fmla="val 3351"/>
                  <a:gd name="adj2" fmla="val -152930"/>
                  <a:gd name="adj3" fmla="val 16667"/>
                </a:avLst>
              </a:prstGeom>
              <a:solidFill>
                <a:srgbClr val="bbe0e3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dentical mat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5680" y="3733920"/>
                <a:ext cx="142920" cy="81900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898640" y="3733920"/>
              <a:ext cx="2978280" cy="2565360"/>
              <a:chOff x="1898640" y="3733920"/>
              <a:chExt cx="2978280" cy="2565360"/>
            </a:xfrm>
          </p:grpSpPr>
          <p:sp>
            <p:nvSpPr>
              <p:cNvPr id="296" name=""/>
              <p:cNvSpPr/>
              <p:nvPr/>
            </p:nvSpPr>
            <p:spPr>
              <a:xfrm>
                <a:off x="2905200" y="5434200"/>
                <a:ext cx="1971720" cy="865080"/>
              </a:xfrm>
              <a:prstGeom prst="wedgeRoundRectCallout">
                <a:avLst>
                  <a:gd name="adj1" fmla="val -96296"/>
                  <a:gd name="adj2" fmla="val -153486"/>
                  <a:gd name="adj3" fmla="val 16667"/>
                </a:avLst>
              </a:prstGeom>
              <a:solidFill>
                <a:srgbClr val="bbe0e3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sitive sco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conservativ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98640" y="3733920"/>
                <a:ext cx="157320" cy="81756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495680" y="3657600"/>
              <a:ext cx="2125800" cy="2154240"/>
              <a:chOff x="4495680" y="3657600"/>
              <a:chExt cx="2125800" cy="2154240"/>
            </a:xfrm>
          </p:grpSpPr>
          <p:sp>
            <p:nvSpPr>
              <p:cNvPr id="299" name=""/>
              <p:cNvSpPr/>
              <p:nvPr/>
            </p:nvSpPr>
            <p:spPr>
              <a:xfrm>
                <a:off x="4964040" y="5105160"/>
                <a:ext cx="1657440" cy="706680"/>
              </a:xfrm>
              <a:prstGeom prst="wedgeRoundRectCallout">
                <a:avLst>
                  <a:gd name="adj1" fmla="val -70689"/>
                  <a:gd name="adj2" fmla="val -141236"/>
                  <a:gd name="adj3" fmla="val 16667"/>
                </a:avLst>
              </a:prstGeom>
              <a:solidFill>
                <a:srgbClr val="bbe0e3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egative substitu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495680" y="3657600"/>
                <a:ext cx="157320" cy="81756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400800" y="3733920"/>
              <a:ext cx="1733040" cy="2209320"/>
              <a:chOff x="6400800" y="3733920"/>
              <a:chExt cx="1733040" cy="2209320"/>
            </a:xfrm>
          </p:grpSpPr>
          <p:sp>
            <p:nvSpPr>
              <p:cNvPr id="302" name=""/>
              <p:cNvSpPr/>
              <p:nvPr/>
            </p:nvSpPr>
            <p:spPr>
              <a:xfrm>
                <a:off x="7074000" y="5626440"/>
                <a:ext cx="1059840" cy="316800"/>
              </a:xfrm>
              <a:prstGeom prst="wedgeRoundRectCallout">
                <a:avLst>
                  <a:gd name="adj1" fmla="val -99500"/>
                  <a:gd name="adj2" fmla="val -383671"/>
                  <a:gd name="adj3" fmla="val 16667"/>
                </a:avLst>
              </a:prstGeom>
              <a:solidFill>
                <a:srgbClr val="bbe0e3"/>
              </a:solidFill>
              <a:ln w="324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00800" y="3733920"/>
                <a:ext cx="150120" cy="83268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20880" y="75960"/>
            <a:ext cx="73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AST Output: Alignmen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"/>
          <p:cNvSpPr/>
          <p:nvPr/>
        </p:nvSpPr>
        <p:spPr>
          <a:xfrm>
            <a:off x="148320" y="1600200"/>
            <a:ext cx="8395200" cy="371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gt;gi|730028|sp|P40692|MLH1_HUMAN DNA mismatch repair protein Mlh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=7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ore =  236 bits (601),  Expect = 1e-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entities = 131/131 (100%), Positives = 131/131 (100%), Gaps = 0/131 (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Query  276  IETVYAAYLPKNTHPFLYLSLEISPQNVDVNVHPTKHEVHFLHEESILERVQQHIESKLL  3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ETVYAAYLPKNTHPFLYLSLEISPQNVDVNVHPTKHEVHFLHEESILERVQQHIESK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bjct  276  IETVYAAYLPKNTHPFLYLSLEISPQNVDVNVHPTKHEVHFLHEESILERVQQHIESKLL  3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Query  336  GSNSSRMYFTQTLLPGLAGPSGEMVKXXXXXXXXXXXXXXDKVYAHQMVRTDSREQKLDA  3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SNSSRMYFTQTLLPGLAGPSGEMVKSTTSLTSSSTSGSSDKVYAHQMVRTDSREQK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bjct  336  GSNSSRMYFTQTLLPGLAGPSGEMVKSTTSLTSSSTSGSSDKVYAHQMVRTDSREQKLDA  3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Query  396  FLQPLSKPLSS  4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LQPLSKPL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bjct  396  FLQPLSKPLSS  4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592080" y="3809880"/>
            <a:ext cx="4565160" cy="1167840"/>
            <a:chOff x="3592080" y="3809880"/>
            <a:chExt cx="4565160" cy="1167840"/>
          </a:xfrm>
        </p:grpSpPr>
        <p:sp>
          <p:nvSpPr>
            <p:cNvPr id="307" name=""/>
            <p:cNvSpPr/>
            <p:nvPr/>
          </p:nvSpPr>
          <p:spPr>
            <a:xfrm>
              <a:off x="4399560" y="3809880"/>
              <a:ext cx="1618560" cy="642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92080" y="451800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low complexity sequence filte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00200" y="2536560"/>
            <a:ext cx="54309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Genomic BLAST pag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Higher Genomes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cken Genome BLA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1804" t="8443" r="3861" b="3873"/>
          <a:stretch/>
        </p:blipFill>
        <p:spPr>
          <a:xfrm>
            <a:off x="1297080" y="1060560"/>
            <a:ext cx="647532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191120" y="419112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038480" y="1752480"/>
            <a:ext cx="4265640" cy="2895840"/>
            <a:chOff x="4038480" y="1752480"/>
            <a:chExt cx="4265640" cy="289584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rcRect l="19975" t="56920" r="56438" b="8503"/>
            <a:stretch/>
          </p:blipFill>
          <p:spPr>
            <a:xfrm>
              <a:off x="5867280" y="1752480"/>
              <a:ext cx="2436840" cy="2895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316" name=""/>
            <p:cNvSpPr/>
            <p:nvPr/>
          </p:nvSpPr>
          <p:spPr>
            <a:xfrm flipV="1">
              <a:off x="4038480" y="2928960"/>
              <a:ext cx="1849680" cy="126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3"/>
          <a:srcRect l="19975" t="64987" r="4961" b="20028"/>
          <a:stretch/>
        </p:blipFill>
        <p:spPr>
          <a:xfrm>
            <a:off x="495360" y="4724280"/>
            <a:ext cx="8305920" cy="1541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1122" t="7895" r="5882" b="5842"/>
          <a:stretch/>
        </p:blipFill>
        <p:spPr>
          <a:xfrm>
            <a:off x="152280" y="838080"/>
            <a:ext cx="5797800" cy="586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672160" y="195120"/>
            <a:ext cx="3387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AST Resul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"/>
          <p:cNvSpPr/>
          <p:nvPr/>
        </p:nvSpPr>
        <p:spPr>
          <a:xfrm>
            <a:off x="999000" y="4343400"/>
            <a:ext cx="27547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hits from one con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rcRect l="987" t="5602" r="2709" b="30268"/>
          <a:stretch/>
        </p:blipFill>
        <p:spPr>
          <a:xfrm>
            <a:off x="2438280" y="1447920"/>
            <a:ext cx="6324840" cy="5046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5000" y="181800"/>
            <a:ext cx="8670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omic Context of BLAST Hi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20945" t="33680" r="3381" b="4611"/>
          <a:stretch/>
        </p:blipFill>
        <p:spPr>
          <a:xfrm>
            <a:off x="228600" y="1143000"/>
            <a:ext cx="6934320" cy="526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hicken Albumin Famil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1061" t="12242" r="2897" b="4646"/>
          <a:stretch/>
        </p:blipFill>
        <p:spPr>
          <a:xfrm>
            <a:off x="533520" y="1138320"/>
            <a:ext cx="7756560" cy="571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2"/>
          <a:srcRect l="10816" t="28243" r="10816" b="5503"/>
          <a:stretch/>
        </p:blipFill>
        <p:spPr>
          <a:xfrm>
            <a:off x="6095880" y="152280"/>
            <a:ext cx="2319480" cy="647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Tetrapod Albumin Reg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rcRect l="19034" t="26663" r="33516" b="19197"/>
          <a:stretch/>
        </p:blipFill>
        <p:spPr>
          <a:xfrm>
            <a:off x="228600" y="1066680"/>
            <a:ext cx="4103640" cy="5639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329" name=""/>
          <p:cNvGrpSpPr/>
          <p:nvPr/>
        </p:nvGrpSpPr>
        <p:grpSpPr>
          <a:xfrm>
            <a:off x="3505320" y="1676520"/>
            <a:ext cx="5486400" cy="4724280"/>
            <a:chOff x="3505320" y="1676520"/>
            <a:chExt cx="5486400" cy="4724280"/>
          </a:xfrm>
        </p:grpSpPr>
        <p:pic>
          <p:nvPicPr>
            <p:cNvPr id="330" name="" descr=""/>
            <p:cNvPicPr/>
            <p:nvPr/>
          </p:nvPicPr>
          <p:blipFill>
            <a:blip r:embed="rId2"/>
            <a:srcRect l="18684" t="29087" r="5604" b="16773"/>
            <a:stretch/>
          </p:blipFill>
          <p:spPr>
            <a:xfrm>
              <a:off x="3505320" y="1676520"/>
              <a:ext cx="5486400" cy="472428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7162920" y="2906640"/>
              <a:ext cx="1670040" cy="16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940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sic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ocal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lignmen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arch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oo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514520"/>
            <a:ext cx="8115480" cy="432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Widely used similarity search tool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Heuristic approach based on Smith Waterman algorithm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Finds best local alignments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Provides statistical significance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All combinations (DNA/Protein) query and database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DNA vs DNA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DNA translation vs Protein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Protein vs Protein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Protein vs DNA translation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DNA translation vs DNA translation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www, standalone, and network clients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race Archive Megabla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1100" t="10153" r="4034" b="961"/>
          <a:stretch/>
        </p:blipFill>
        <p:spPr>
          <a:xfrm>
            <a:off x="1447920" y="1219320"/>
            <a:ext cx="5867280" cy="52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934320" y="3505320"/>
            <a:ext cx="1987560" cy="2955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Platypus WGS trace Hi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11858" t="11422" r="13812" b="8376"/>
          <a:stretch/>
        </p:blipFill>
        <p:spPr>
          <a:xfrm>
            <a:off x="380880" y="1066680"/>
            <a:ext cx="48387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7" name="" descr=""/>
          <p:cNvPicPr/>
          <p:nvPr/>
        </p:nvPicPr>
        <p:blipFill>
          <a:blip r:embed="rId2"/>
          <a:srcRect l="858" t="15733" r="5431" b="0"/>
          <a:stretch/>
        </p:blipFill>
        <p:spPr>
          <a:xfrm>
            <a:off x="3276720" y="1219320"/>
            <a:ext cx="548640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38" name=""/>
          <p:cNvSpPr/>
          <p:nvPr/>
        </p:nvSpPr>
        <p:spPr>
          <a:xfrm>
            <a:off x="39625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rcRect l="858" t="15733" r="8859" b="0"/>
          <a:stretch/>
        </p:blipFill>
        <p:spPr>
          <a:xfrm>
            <a:off x="1828800" y="3367080"/>
            <a:ext cx="4876920" cy="34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884" t="10405" r="2776" b="7364"/>
          <a:stretch/>
        </p:blipFill>
        <p:spPr>
          <a:xfrm>
            <a:off x="990720" y="1066680"/>
            <a:ext cx="6553080" cy="52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Platypus tra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68240" cy="1143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43" name="" descr=""/>
          <p:cNvPicPr/>
          <p:nvPr/>
        </p:nvPicPr>
        <p:blipFill>
          <a:blip r:embed="rId3"/>
          <a:srcRect l="1821" t="6911" r="4327" b="17929"/>
          <a:stretch/>
        </p:blipFill>
        <p:spPr>
          <a:xfrm>
            <a:off x="2057400" y="1447920"/>
            <a:ext cx="6095880" cy="5148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44" name="" descr=""/>
          <p:cNvPicPr/>
          <p:nvPr/>
        </p:nvPicPr>
        <p:blipFill>
          <a:blip r:embed="rId4"/>
          <a:srcRect l="1821" t="19872" r="12529" b="10152"/>
          <a:stretch/>
        </p:blipFill>
        <p:spPr>
          <a:xfrm>
            <a:off x="1600200" y="2195640"/>
            <a:ext cx="5410080" cy="466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98720" y="274320"/>
            <a:ext cx="513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rvice Address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"/>
          <p:cNvSpPr/>
          <p:nvPr/>
        </p:nvSpPr>
        <p:spPr>
          <a:xfrm>
            <a:off x="239400" y="2080080"/>
            <a:ext cx="8684640" cy="1586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Hel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fo@ncbi.nlm.nih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LAS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last-help@ncbi.nlm.nih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0080" y="401472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hone support: 301- 496- 24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5240" y="2021040"/>
            <a:ext cx="72388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GTACTGGACATGGACCCTACAGGAAC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TGGACATGGACCCTACAGGAACGTA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CATGGACCCTACAGGAACGTATACGTAA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cc"/>
                </a:solidFill>
                <a:latin typeface="Courier New"/>
              </a:rPr>
              <a:t>     .   .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84240"/>
            <a:ext cx="50306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6dd6"/>
                </a:solidFill>
                <a:latin typeface="Lucida Sans Unicode"/>
              </a:rPr>
              <a:t>Nucleotide Word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"/>
          <p:cNvSpPr/>
          <p:nvPr/>
        </p:nvSpPr>
        <p:spPr>
          <a:xfrm>
            <a:off x="419040" y="1790640"/>
            <a:ext cx="5283360" cy="38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TACTGGAC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ACTGGACA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GGACAT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TGGACATG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GGACATGG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GACATGG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ACATGGAC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ATGGACC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.   . 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10400" y="1035000"/>
            <a:ext cx="8403840" cy="1068120"/>
            <a:chOff x="410400" y="1035000"/>
            <a:chExt cx="8403840" cy="1068120"/>
          </a:xfrm>
        </p:grpSpPr>
        <p:sp>
          <p:nvSpPr>
            <p:cNvPr id="65" name=""/>
            <p:cNvSpPr/>
            <p:nvPr/>
          </p:nvSpPr>
          <p:spPr>
            <a:xfrm>
              <a:off x="5761080" y="1471680"/>
              <a:ext cx="2989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Make a look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table of wo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0400" y="1035000"/>
              <a:ext cx="694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Courier New"/>
                </a:rPr>
                <a:t>GTACTGGACATGGACCCTACAGGAACGTATACGTA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0560" y="1066680"/>
              <a:ext cx="91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635040" y="1378080"/>
              <a:ext cx="2425680" cy="459360"/>
              <a:chOff x="635040" y="1378080"/>
              <a:chExt cx="2425680" cy="459360"/>
            </a:xfrm>
          </p:grpSpPr>
          <p:sp>
            <p:nvSpPr>
              <p:cNvPr id="69" name=""/>
              <p:cNvSpPr/>
              <p:nvPr/>
            </p:nvSpPr>
            <p:spPr>
              <a:xfrm rot="5400000">
                <a:off x="1619280" y="393480"/>
                <a:ext cx="457200" cy="2425680"/>
              </a:xfrm>
              <a:custGeom>
                <a:avLst/>
                <a:gdLst>
                  <a:gd name="textAreaLeft" fmla="*/ 0 w 457200"/>
                  <a:gd name="textAreaRight" fmla="*/ 320760 w 457200"/>
                  <a:gd name="textAreaTop" fmla="*/ 100800 h 2425680"/>
                  <a:gd name="textAreaBottom" fmla="*/ 2324880 h 2425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46120" y="150012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11-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5133960" y="4152960"/>
            <a:ext cx="3781440" cy="1447560"/>
            <a:chOff x="5133960" y="4152960"/>
            <a:chExt cx="3781440" cy="1447560"/>
          </a:xfrm>
        </p:grpSpPr>
        <p:grpSp>
          <p:nvGrpSpPr>
            <p:cNvPr id="72" name=""/>
            <p:cNvGrpSpPr/>
            <p:nvPr/>
          </p:nvGrpSpPr>
          <p:grpSpPr>
            <a:xfrm>
              <a:off x="5133960" y="4152960"/>
              <a:ext cx="3781080" cy="1447560"/>
              <a:chOff x="5133960" y="4152960"/>
              <a:chExt cx="3781080" cy="1447560"/>
            </a:xfrm>
          </p:grpSpPr>
          <p:sp>
            <p:nvSpPr>
              <p:cNvPr id="73" name=""/>
              <p:cNvSpPr/>
              <p:nvPr/>
            </p:nvSpPr>
            <p:spPr>
              <a:xfrm>
                <a:off x="7769880" y="5118480"/>
                <a:ext cx="1144800" cy="482040"/>
              </a:xfrm>
              <a:prstGeom prst="rect">
                <a:avLst/>
              </a:prstGeom>
              <a:solidFill>
                <a:srgbClr val="ffff66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Lucida Sans Unicode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635160" y="5118480"/>
                <a:ext cx="1134720" cy="482040"/>
              </a:xfrm>
              <a:prstGeom prst="rect">
                <a:avLst/>
              </a:prstGeom>
              <a:solidFill>
                <a:srgbClr val="ffff66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cc"/>
                    </a:solidFill>
                    <a:latin typeface="Lucida Sans Unicode"/>
                  </a:rPr>
                  <a:t>2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133960" y="5118480"/>
                <a:ext cx="1501200" cy="4820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66cc"/>
                    </a:solidFill>
                    <a:latin typeface="Lucida Sans Unicode"/>
                  </a:rPr>
                  <a:t>megabla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69880" y="4635000"/>
                <a:ext cx="1144800" cy="483480"/>
              </a:xfrm>
              <a:prstGeom prst="rect">
                <a:avLst/>
              </a:prstGeom>
              <a:solidFill>
                <a:srgbClr val="ffff66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635160" y="4635000"/>
                <a:ext cx="1134720" cy="483480"/>
              </a:xfrm>
              <a:prstGeom prst="rect">
                <a:avLst/>
              </a:prstGeom>
              <a:solidFill>
                <a:srgbClr val="ffff66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133960" y="4635000"/>
                <a:ext cx="1501200" cy="483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blast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69880" y="4152960"/>
                <a:ext cx="1144800" cy="4820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Lucida Sans Unicode"/>
                  </a:rPr>
                  <a:t>Min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635160" y="4152960"/>
                <a:ext cx="1134720" cy="4820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Lucida Sans Unicode"/>
                  </a:rPr>
                  <a:t>Def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33960" y="4152960"/>
                <a:ext cx="1501200" cy="4820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Lucida Sans Unicode"/>
                  </a:rPr>
                  <a:t>WORD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133960" y="4635000"/>
                <a:ext cx="378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33960" y="5118480"/>
                <a:ext cx="378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33960" y="5600520"/>
                <a:ext cx="37810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33960" y="4152960"/>
                <a:ext cx="0" cy="1447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635160" y="4152960"/>
                <a:ext cx="0" cy="144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769880" y="4152960"/>
                <a:ext cx="0" cy="144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915040" y="4152960"/>
                <a:ext cx="0" cy="1447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133960" y="4152960"/>
              <a:ext cx="3781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16120" y="109080"/>
            <a:ext cx="40053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Lucida Sans Unicode"/>
              </a:rPr>
              <a:t>Protein Word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12120" y="914400"/>
            <a:ext cx="6627600" cy="581400"/>
            <a:chOff x="312120" y="914400"/>
            <a:chExt cx="6627600" cy="581400"/>
          </a:xfrm>
        </p:grpSpPr>
        <p:sp>
          <p:nvSpPr>
            <p:cNvPr id="92" name=""/>
            <p:cNvSpPr/>
            <p:nvPr/>
          </p:nvSpPr>
          <p:spPr>
            <a:xfrm>
              <a:off x="1394640" y="914400"/>
              <a:ext cx="554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Courier New"/>
                </a:rPr>
                <a:t>GTQITVEDLFYNIATRRKALK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120" y="960120"/>
              <a:ext cx="12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 Unicode"/>
                </a:rPr>
                <a:t>Query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505320" y="2776680"/>
            <a:ext cx="5409720" cy="975240"/>
            <a:chOff x="3505320" y="2776680"/>
            <a:chExt cx="5409720" cy="975240"/>
          </a:xfrm>
        </p:grpSpPr>
        <p:sp>
          <p:nvSpPr>
            <p:cNvPr id="95" name=""/>
            <p:cNvSpPr/>
            <p:nvPr/>
          </p:nvSpPr>
          <p:spPr>
            <a:xfrm>
              <a:off x="3971520" y="2776680"/>
              <a:ext cx="49435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Neighborhood Wo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Sans Unicode"/>
                </a:rPr>
                <a:t>LTV, MTV, ISV, LSV, etc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3481200"/>
              <a:ext cx="46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01720" y="1397160"/>
            <a:ext cx="318132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T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Q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Q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920" y="3389400"/>
            <a:ext cx="1930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ke a loo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ble of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35160" y="1589040"/>
            <a:ext cx="4729320" cy="1119240"/>
            <a:chOff x="3035160" y="1589040"/>
            <a:chExt cx="4729320" cy="1119240"/>
          </a:xfrm>
        </p:grpSpPr>
        <p:grpSp>
          <p:nvGrpSpPr>
            <p:cNvPr id="100" name=""/>
            <p:cNvGrpSpPr/>
            <p:nvPr/>
          </p:nvGrpSpPr>
          <p:grpSpPr>
            <a:xfrm>
              <a:off x="3035160" y="1589040"/>
              <a:ext cx="4501080" cy="1025640"/>
              <a:chOff x="3035160" y="1589040"/>
              <a:chExt cx="4501080" cy="1025640"/>
            </a:xfrm>
          </p:grpSpPr>
          <p:sp>
            <p:nvSpPr>
              <p:cNvPr id="101" name=""/>
              <p:cNvSpPr/>
              <p:nvPr/>
            </p:nvSpPr>
            <p:spPr>
              <a:xfrm rot="5400000">
                <a:off x="3360240" y="1373040"/>
                <a:ext cx="152280" cy="5839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15120 h 583920"/>
                  <a:gd name="textAreaBottom" fmla="*/ 568800 h 583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35160" y="1847520"/>
                <a:ext cx="450108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Word size = 3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(defaul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Word size can only be 2 or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580520" y="23112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461880"/>
            <a:ext cx="77882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inimum Requirements for a Hi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"/>
          <p:cNvSpPr/>
          <p:nvPr/>
        </p:nvSpPr>
        <p:spPr>
          <a:xfrm>
            <a:off x="338040" y="3143160"/>
            <a:ext cx="8399520" cy="7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tide BLAST requires one exact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BLAST requires two neighboring matches within 40 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8640" y="4378320"/>
            <a:ext cx="2954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Q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VEDL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FY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EI     Y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751200" y="510516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486040" y="5105520"/>
            <a:ext cx="152280" cy="60948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618080" y="4542480"/>
            <a:ext cx="152640" cy="2344680"/>
          </a:xfrm>
          <a:custGeom>
            <a:avLst/>
            <a:gdLst>
              <a:gd name="textAreaLeft" fmla="*/ 0 w 152640"/>
              <a:gd name="textAreaRight" fmla="*/ 55080 w 152640"/>
              <a:gd name="textAreaTop" fmla="*/ 60840 h 2344680"/>
              <a:gd name="textAreaBottom" fmla="*/ 2283840 h 23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39880" y="1162080"/>
            <a:ext cx="4204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CGC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CATGCTTAAT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GGC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CATGCTTAAT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76600">
            <a:off x="4605480" y="1176840"/>
            <a:ext cx="152640" cy="1760760"/>
          </a:xfrm>
          <a:custGeom>
            <a:avLst/>
            <a:gdLst>
              <a:gd name="textAreaLeft" fmla="*/ 0 w 152640"/>
              <a:gd name="textAreaRight" fmla="*/ 55080 w 152640"/>
              <a:gd name="textAreaTop" fmla="*/ 45720 h 1760760"/>
              <a:gd name="textAreaBottom" fmla="*/ 1715040 h 176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5680" y="487692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21200" y="16765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word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64240" y="2209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e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9640" y="59436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wo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1579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n alignment that BLAST can’t fin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"/>
          <p:cNvSpPr/>
          <p:nvPr/>
        </p:nvSpPr>
        <p:spPr>
          <a:xfrm>
            <a:off x="-247320" y="1600200"/>
            <a:ext cx="910512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1 GAATATATGAAGACCAAGATTGCAGTCCTGCTGGCCTGAACCACGCTATTCTTGCTGT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|| | || || || |  || || ||   ||  |  ||| |||||| | | || | |||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1 GAGTGTACGATGAGCCCGAGTGTAGCAGTGAAGATCTGGACCACGGTGTACTCGTTGTC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61 GTTACGGAACCGAGAATGGTAAAGACTACTGGATCATTAAGAACTCCTGGGGAGCCAG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| || ||     ||  ||| ||  | |||||| || | ||||||  |||||  |    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61 GCTATGGTGTTAAGGGTGGGAAGAAGTACTGGCTCGTCAAGAACAGCTGGGCTGAATC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121 GGGGTGAACAAGGTTATTTCAGGCTTGCTCGTGGTAAAA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|||| || ||||| ||  ||    |  | ||||  || |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996600"/>
                </a:solidFill>
                <a:latin typeface="Courier New"/>
              </a:rPr>
              <a:t>121 GGGGAGACCAAGGCTACATCCTTATGTCCCGTGACAACA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01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egablast: NCBI’s Genome Annotato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936200" cy="48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Long alignments for similar DNA sequences</a:t>
            </a:r>
            <a:endParaRPr b="0" lang="en-US" sz="30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Concatenation of query sequences</a:t>
            </a:r>
            <a:endParaRPr b="0" lang="en-US" sz="30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Faster than blastn</a:t>
            </a:r>
            <a:endParaRPr b="0" lang="en-US" sz="30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Contiguous Megablast</a:t>
            </a:r>
            <a:endParaRPr b="0" lang="en-US" sz="30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exact word match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ord size 28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Discontiguous Megablast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initial word hit with mismatche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ross-species compariso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4:45:23Z</dcterms:created>
  <dc:creator>Peter S. Cooper</dc:creator>
  <dc:description/>
  <dc:language>en-US</dc:language>
  <cp:lastModifiedBy>David Landsman</cp:lastModifiedBy>
  <dcterms:modified xsi:type="dcterms:W3CDTF">2006-06-24T15:13:23Z</dcterms:modified>
  <cp:revision>9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ofTV.AudioSettingsChecksum">
    <vt:lpwstr>1291</vt:lpwstr>
  </property>
  <property fmtid="{D5CDD505-2E9C-101B-9397-08002B2CF9AE}" pid="3" name="sofTV.Course">
    <vt:lpwstr/>
  </property>
  <property fmtid="{D5CDD505-2E9C-101B-9397-08002B2CF9AE}" pid="4" name="sofTV.LastPublishedChecksum">
    <vt:lpwstr>8933960</vt:lpwstr>
  </property>
  <property fmtid="{D5CDD505-2E9C-101B-9397-08002B2CF9AE}" pid="5" name="sofTV.LastRecordedDate">
    <vt:lpwstr>05/21/04 13:46:49</vt:lpwstr>
  </property>
  <property fmtid="{D5CDD505-2E9C-101B-9397-08002B2CF9AE}" pid="6" name="sofTV.OutputFolderChecksum">
    <vt:lpwstr>4596381958</vt:lpwstr>
  </property>
  <property fmtid="{D5CDD505-2E9C-101B-9397-08002B2CF9AE}" pid="7" name="sofTV.Photo_Filename">
    <vt:lpwstr>C:\Ch_DataFiles\Course_FieldGuide\FieldGuideRecording\cooper_160x120.JPG</vt:lpwstr>
  </property>
  <property fmtid="{D5CDD505-2E9C-101B-9397-08002B2CF9AE}" pid="8" name="sofTV.SettingsStateChecksum">
    <vt:lpwstr>38848</vt:lpwstr>
  </property>
  <property fmtid="{D5CDD505-2E9C-101B-9397-08002B2CF9AE}" pid="9" name="sofTV.SlideOrderChecksum">
    <vt:lpwstr>151521</vt:lpwstr>
  </property>
  <property fmtid="{D5CDD505-2E9C-101B-9397-08002B2CF9AE}" pid="10" name="sofTV.Speaker_Email">
    <vt:lpwstr>cooper@ncbi.nlm.nih.gov</vt:lpwstr>
  </property>
  <property fmtid="{D5CDD505-2E9C-101B-9397-08002B2CF9AE}" pid="11" name="sofTV.Speaker_Name">
    <vt:lpwstr>Peter Cooper</vt:lpwstr>
  </property>
  <property fmtid="{D5CDD505-2E9C-101B-9397-08002B2CF9AE}" pid="12" name="sofTV.TemplateChecksumOnLastPublish">
    <vt:lpwstr>27686025</vt:lpwstr>
  </property>
  <property fmtid="{D5CDD505-2E9C-101B-9397-08002B2CF9AE}" pid="13" name="sofTV.Title">
    <vt:lpwstr>NCBI FieldGuide: Entrez Searching</vt:lpwstr>
  </property>
</Properties>
</file>